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03B-AE8C-4B6C-A2A5-FDBAAC9A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ated blood vessels increase the amount of oxygen to the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ated iris allows more light into the retina (more visual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979-2290-4A7C-B92E-073B1DA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1EB-987C-49D5-9FFB-2E4BA3E7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C68-1A01-41CA-ABA1-603FF657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4F2-2458-4B74-AFC5-96424A8F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ABE-4D08-42C2-944F-1314A34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A61-B8F5-4CFB-83D2-54AA7A2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E1A-E4C6-44F8-A452-D01096C1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99F-1A5E-4374-B8F7-0402CADB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A21-5052-41B7-AB1F-0D664452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97D-BA38-4E15-8FD3-8BF108B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3E1-6AAE-460B-A4C7-F0236DF0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A8F-39DF-43A1-B6C7-FD24E9C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E310-B293-44AD-97D1-C4E1822E8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 http://highered.mcgraw-hill.com/sites/0078664276/student_view0/unit5/chapter21/chapter_test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852480"/>
            <a:ext cx="7772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users.rcn.com/jkimball.ma.ultranet/BiologyPages/P/PN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out consciou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istinct un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athetic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(prepares the body for st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sympathetic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restores normal balance after stress adjus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6080" y="609480"/>
            <a:ext cx="6710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ine &amp; Noradrena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epinephrine &amp; nor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adrenal medulla and released under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glycogen stores to be converted into glucose; increase in heart rate, breathing rate, cell metabolism; dilation of blood vessels and 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0:07:03Z</dcterms:created>
  <dc:creator>rubina khan</dc:creator>
  <dc:description/>
  <dc:language>en-US</dc:language>
  <cp:lastModifiedBy>rubina khan</cp:lastModifiedBy>
  <dcterms:modified xsi:type="dcterms:W3CDTF">2011-12-21T10:32:57Z</dcterms:modified>
  <cp:revision>10</cp:revision>
  <dc:subject/>
  <dc:title>PowerPoint Presentation</dc:title>
</cp:coreProperties>
</file>